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png" ContentType="image/png"/>
  <Override PartName="/ppt/media/image20.gif" ContentType="image/gif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jpeg" ContentType="image/jpeg"/>
  <Override PartName="/ppt/media/image12.jpeg" ContentType="image/jpeg"/>
  <Override PartName="/ppt/media/image5.png" ContentType="image/png"/>
  <Override PartName="/ppt/media/image33.wmf" ContentType="image/x-wmf"/>
  <Override PartName="/ppt/media/image29.jpeg" ContentType="image/jpeg"/>
  <Override PartName="/ppt/media/image14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gif" ContentType="image/gif"/>
  <Override PartName="/ppt/media/image37.png" ContentType="image/png"/>
  <Override PartName="/ppt/media/image32.jpeg" ContentType="image/jpeg"/>
  <Override PartName="/ppt/media/image36.gif" ContentType="image/gif"/>
  <Override PartName="/ppt/media/image28.png" ContentType="image/png"/>
  <Override PartName="/ppt/media/image38.jpeg" ContentType="image/jpeg"/>
  <Override PartName="/ppt/media/image7.jpeg" ContentType="image/jpeg"/>
  <Override PartName="/ppt/media/image8.png" ContentType="image/png"/>
  <Override PartName="/ppt/media/image27.jpeg" ContentType="image/jpeg"/>
  <Override PartName="/ppt/media/image13.gif" ContentType="image/gif"/>
  <Override PartName="/ppt/media/image16.jpeg" ContentType="image/jpeg"/>
  <Override PartName="/ppt/media/image39.gif" ContentType="image/gif"/>
  <Override PartName="/ppt/media/image3.png" ContentType="image/png"/>
  <Override PartName="/ppt/media/image17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BC0-6527-4C0C-A086-6E7B7B82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B3C-FC39-400A-B650-A9A11D19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05A-0FB2-4802-85F1-8B4B9338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1A9-16AD-4B8E-B49D-394C24E4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8510-D9F4-403B-AF71-04D606DF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DE0B-1029-4265-9B79-C9309901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13B8-CDFC-49A0-9728-830DFBB6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2112-5134-4BF9-AB90-075F20D7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1D4F-4B4A-4B6D-BF26-D8D3407A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E522-C823-4476-91A9-BD6124C5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C874-6669-4E38-AD5B-0DEFF90F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B77-BE2D-457C-AC63-05D2FB3F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BE99-6971-47AD-ACCA-6BCD83E1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E411-3017-4085-86A4-F03C6221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F1FE-D83C-40AA-AE1E-8613996A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A9EE-F1ED-4618-B30C-8CB05DED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FE70-8ADA-4D9E-954C-831BA1FB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1E1-22AF-4E0E-AF77-EAF7FE36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BFE-86D6-4695-BB5A-8E222E66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A36-8EBC-43EA-AFAF-0FDE39E7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588-0883-4121-9214-EC616BBC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A48-5F98-4DC1-9A8F-FAA906B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098-1EAD-4B98-A4C1-18FB55FC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906-746E-458D-8C60-68A0FB7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A360-5968-4722-870A-F39683C57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B2DA-4D6A-471B-8849-DEA4DD0EF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aasc/index.asp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../Hyperlinked%20resources/school2.pdf" TargetMode="External"/><Relationship Id="rId4" Type="http://schemas.openxmlformats.org/officeDocument/2006/relationships/hyperlink" Target="http://www.travelsmart.gov.au/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3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pi.wa.gov.au/walking/713.asp" TargetMode="External"/><Relationship Id="rId3" Type="http://schemas.openxmlformats.org/officeDocument/2006/relationships/hyperlink" Target="http://www.whi.org.uk/" TargetMode="External"/><Relationship Id="rId4" Type="http://schemas.openxmlformats.org/officeDocument/2006/relationships/hyperlink" Target="http://www.path-to-health.com/" TargetMode="External"/><Relationship Id="rId5" Type="http://schemas.openxmlformats.org/officeDocument/2006/relationships/hyperlink" Target="http://www.joondalup.wa.gov.au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image" Target="../media/image34.gif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6.gi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hyperlink" Target="http://www.ausport.gov.au/" TargetMode="External"/><Relationship Id="rId4" Type="http://schemas.openxmlformats.org/officeDocument/2006/relationships/hyperlink" Target="http://www.find30.com.au/" TargetMode="External"/><Relationship Id="rId5" Type="http://schemas.openxmlformats.org/officeDocument/2006/relationships/hyperlink" Target="http://www.walkingbus.com/" TargetMode="External"/><Relationship Id="rId6" Type="http://schemas.openxmlformats.org/officeDocument/2006/relationships/hyperlink" Target="http://www.walkingbus.com/" TargetMode="External"/><Relationship Id="rId7" Type="http://schemas.openxmlformats.org/officeDocument/2006/relationships/hyperlink" Target="http://www.newhealth.govt.nz/" TargetMode="External"/><Relationship Id="rId8" Type="http://schemas.openxmlformats.org/officeDocument/2006/relationships/hyperlink" Target="http://www.newhealth.govt.nz/" TargetMode="External"/><Relationship Id="rId9" Type="http://schemas.openxmlformats.org/officeDocument/2006/relationships/hyperlink" Target="http://www.10000steps.org.au/rockhampton/" TargetMode="External"/><Relationship Id="rId10" Type="http://schemas.openxmlformats.org/officeDocument/2006/relationships/hyperlink" Target="http://www.travelsmart.gov.au/" TargetMode="External"/><Relationship Id="rId11" Type="http://schemas.openxmlformats.org/officeDocument/2006/relationships/hyperlink" Target="http://www.travelsmart.gov.au/" TargetMode="External"/><Relationship Id="rId12" Type="http://schemas.openxmlformats.org/officeDocument/2006/relationships/hyperlink" Target="http://www.who.int/" TargetMode="External"/><Relationship Id="rId13" Type="http://schemas.openxmlformats.org/officeDocument/2006/relationships/hyperlink" Target="http://www.who.int/" TargetMode="External"/><Relationship Id="rId14" Type="http://schemas.openxmlformats.org/officeDocument/2006/relationships/hyperlink" Target="http://www.heartfoundation.com.au/" TargetMode="External"/><Relationship Id="rId15" Type="http://schemas.openxmlformats.org/officeDocument/2006/relationships/hyperlink" Target="http://www.heartfoundation.com.au/" TargetMode="External"/><Relationship Id="rId16" Type="http://schemas.openxmlformats.org/officeDocument/2006/relationships/hyperlink" Target="http://www.vichealth.vic.gov.au/" TargetMode="External"/><Relationship Id="rId17" Type="http://schemas.openxmlformats.org/officeDocument/2006/relationships/hyperlink" Target="http://www.vichealth.vic.gov.au/" TargetMode="External"/><Relationship Id="rId18" Type="http://schemas.openxmlformats.org/officeDocument/2006/relationships/hyperlink" Target="http://www.beactive.com.au/" TargetMode="External"/><Relationship Id="rId19" Type="http://schemas.openxmlformats.org/officeDocument/2006/relationships/hyperlink" Target="http://www.beactive.com.au/" TargetMode="External"/><Relationship Id="rId20" Type="http://schemas.openxmlformats.org/officeDocument/2006/relationships/hyperlink" Target="http://www.goforyourlife.vic.gov.au/" TargetMode="External"/><Relationship Id="rId21" Type="http://schemas.openxmlformats.org/officeDocument/2006/relationships/hyperlink" Target="http://www.goforyourlife.vic.gov.au/" TargetMode="External"/><Relationship Id="rId22" Type="http://schemas.openxmlformats.org/officeDocument/2006/relationships/hyperlink" Target="http://www.cdc.gov/nccdphp/dnpa/physical/health_professionals/index.htm" TargetMode="External"/><Relationship Id="rId23" Type="http://schemas.openxmlformats.org/officeDocument/2006/relationships/hyperlink" Target="http://www.phac-aspc.gc.ca/hp-ps/index.html" TargetMode="External"/><Relationship Id="rId24" Type="http://schemas.openxmlformats.org/officeDocument/2006/relationships/hyperlink" Target="http://www.nphp.gov.au/workprog/sigpah/" TargetMode="External"/><Relationship Id="rId25" Type="http://schemas.openxmlformats.org/officeDocument/2006/relationships/hyperlink" Target="http://www.nphp.gov.au/workprog/sigpah/" TargetMode="External"/><Relationship Id="rId26" Type="http://schemas.openxmlformats.org/officeDocument/2006/relationships/hyperlink" Target="http://www.nphp.gov.au/workprog/sigpah/" TargetMode="External"/><Relationship Id="rId27" Type="http://schemas.openxmlformats.org/officeDocument/2006/relationships/hyperlink" Target="http://www.cdc.gov/HealthyYouth/" TargetMode="External"/><Relationship Id="rId28" Type="http://schemas.openxmlformats.org/officeDocument/2006/relationships/hyperlink" Target="http://www.cdc.gov/HealthyYouth/" TargetMode="External"/><Relationship Id="rId29" Type="http://schemas.openxmlformats.org/officeDocument/2006/relationships/hyperlink" Target="http://www.cdc.gov/HealthyYouth/" TargetMode="External"/><Relationship Id="rId30" Type="http://schemas.openxmlformats.org/officeDocument/2006/relationships/hyperlink" Target="http://www.americaonthemove.org/" TargetMode="External"/><Relationship Id="rId31" Type="http://schemas.openxmlformats.org/officeDocument/2006/relationships/hyperlink" Target="http://www.americaonthemove.org/" TargetMode="External"/><Relationship Id="rId32" Type="http://schemas.openxmlformats.org/officeDocument/2006/relationships/hyperlink" Target="http://www.ijbnpa.org/home" TargetMode="External"/><Relationship Id="rId33" Type="http://schemas.openxmlformats.org/officeDocument/2006/relationships/hyperlink" Target="http://www.ijbnpa.org/home" TargetMode="External"/><Relationship Id="rId34" Type="http://schemas.openxmlformats.org/officeDocument/2006/relationships/hyperlink" Target="http://www.ijbnpa.org/home" TargetMode="External"/><Relationship Id="rId35" Type="http://schemas.openxmlformats.org/officeDocument/2006/relationships/hyperlink" Target="http://www.health.gov.au/internet/wcms/publishing.nsf/content/home" TargetMode="External"/><Relationship Id="rId36" Type="http://schemas.openxmlformats.org/officeDocument/2006/relationships/hyperlink" Target="http://www.healthyactive.gov.au/" TargetMode="External"/><Relationship Id="rId37" Type="http://schemas.openxmlformats.org/officeDocument/2006/relationships/hyperlink" Target="http://www.healthyactive.gov.au/" TargetMode="External"/><Relationship Id="rId38" Type="http://schemas.openxmlformats.org/officeDocument/2006/relationships/hyperlink" Target="http://www.nphp.gov.au/" TargetMode="External"/><Relationship Id="rId39" Type="http://schemas.openxmlformats.org/officeDocument/2006/relationships/hyperlink" Target="http://www.nphp.gov.au/" TargetMode="External"/><Relationship Id="rId40" Type="http://schemas.openxmlformats.org/officeDocument/2006/relationships/hyperlink" Target="http://www.beactive.com.au/" TargetMode="External"/><Relationship Id="rId41" Type="http://schemas.openxmlformats.org/officeDocument/2006/relationships/hyperlink" Target="http://www.beactive.com.au/" TargetMode="External"/><Relationship Id="rId42" Type="http://schemas.openxmlformats.org/officeDocument/2006/relationships/hyperlink" Target="http://www.sport.vic.gov.au/" TargetMode="External"/><Relationship Id="rId43" Type="http://schemas.openxmlformats.org/officeDocument/2006/relationships/hyperlink" Target="http://www.sport.vic.gov.au/" TargetMode="External"/><Relationship Id="rId44" Type="http://schemas.openxmlformats.org/officeDocument/2006/relationships/hyperlink" Target="http://www.ausport.gov.au/" TargetMode="External"/><Relationship Id="rId45" Type="http://schemas.openxmlformats.org/officeDocument/2006/relationships/hyperlink" Target="http://www.ausport.gov.au/" TargetMode="External"/><Relationship Id="rId46" Type="http://schemas.openxmlformats.org/officeDocument/2006/relationships/hyperlink" Target="http://www.find30.com.au/" TargetMode="External"/><Relationship Id="rId47" Type="http://schemas.openxmlformats.org/officeDocument/2006/relationships/hyperlink" Target="http://www.walkingbus.com/" TargetMode="External"/><Relationship Id="rId48" Type="http://schemas.openxmlformats.org/officeDocument/2006/relationships/hyperlink" Target="http://www.walkingbus.com/" TargetMode="External"/><Relationship Id="rId49" Type="http://schemas.openxmlformats.org/officeDocument/2006/relationships/hyperlink" Target="http://www.newhealth.govt.nz/" TargetMode="External"/><Relationship Id="rId50" Type="http://schemas.openxmlformats.org/officeDocument/2006/relationships/hyperlink" Target="http://www.newhealth.govt.nz/" TargetMode="External"/><Relationship Id="rId51" Type="http://schemas.openxmlformats.org/officeDocument/2006/relationships/hyperlink" Target="http://www.10000steps.org.au/rockhampton/" TargetMode="External"/><Relationship Id="rId52" Type="http://schemas.openxmlformats.org/officeDocument/2006/relationships/hyperlink" Target="http://www.travelsmart.gov.au/" TargetMode="External"/><Relationship Id="rId53" Type="http://schemas.openxmlformats.org/officeDocument/2006/relationships/hyperlink" Target="http://www.travelsmart.gov.au/" TargetMode="External"/><Relationship Id="rId54" Type="http://schemas.openxmlformats.org/officeDocument/2006/relationships/hyperlink" Target="http://www.who.int/" TargetMode="External"/><Relationship Id="rId55" Type="http://schemas.openxmlformats.org/officeDocument/2006/relationships/hyperlink" Target="http://www.who.int/" TargetMode="External"/><Relationship Id="rId56" Type="http://schemas.openxmlformats.org/officeDocument/2006/relationships/hyperlink" Target="http://www.heartfoundation.com.au/" TargetMode="External"/><Relationship Id="rId57" Type="http://schemas.openxmlformats.org/officeDocument/2006/relationships/hyperlink" Target="http://www.heartfoundation.com.au/" TargetMode="External"/><Relationship Id="rId58" Type="http://schemas.openxmlformats.org/officeDocument/2006/relationships/hyperlink" Target="http://www.vichealth.vic.gov.au/" TargetMode="External"/><Relationship Id="rId59" Type="http://schemas.openxmlformats.org/officeDocument/2006/relationships/hyperlink" Target="http://www.vichealth.vic.gov.au/" TargetMode="External"/><Relationship Id="rId60" Type="http://schemas.openxmlformats.org/officeDocument/2006/relationships/hyperlink" Target="http://www.beactive.com.au/" TargetMode="External"/><Relationship Id="rId61" Type="http://schemas.openxmlformats.org/officeDocument/2006/relationships/hyperlink" Target="http://www.beactive.com.au/" TargetMode="External"/><Relationship Id="rId62" Type="http://schemas.openxmlformats.org/officeDocument/2006/relationships/image" Target="../media/image3.png"/><Relationship Id="rId6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hyperlink" Target="http://www.ausport.gov.au/" TargetMode="External"/><Relationship Id="rId4" Type="http://schemas.openxmlformats.org/officeDocument/2006/relationships/hyperlink" Target="http://www.find30.com.au/" TargetMode="External"/><Relationship Id="rId5" Type="http://schemas.openxmlformats.org/officeDocument/2006/relationships/hyperlink" Target="http://www.walkingbus.com/" TargetMode="External"/><Relationship Id="rId6" Type="http://schemas.openxmlformats.org/officeDocument/2006/relationships/hyperlink" Target="http://www.walkingbus.com/" TargetMode="External"/><Relationship Id="rId7" Type="http://schemas.openxmlformats.org/officeDocument/2006/relationships/hyperlink" Target="http://www.newhealth.govt.nz/" TargetMode="External"/><Relationship Id="rId8" Type="http://schemas.openxmlformats.org/officeDocument/2006/relationships/hyperlink" Target="http://www.newhealth.govt.nz/" TargetMode="External"/><Relationship Id="rId9" Type="http://schemas.openxmlformats.org/officeDocument/2006/relationships/hyperlink" Target="http://www.10000steps.org.au/rockhampton/" TargetMode="External"/><Relationship Id="rId10" Type="http://schemas.openxmlformats.org/officeDocument/2006/relationships/hyperlink" Target="http://www.travelsmart.gov.au/" TargetMode="External"/><Relationship Id="rId11" Type="http://schemas.openxmlformats.org/officeDocument/2006/relationships/hyperlink" Target="http://www.travelsmart.gov.au/" TargetMode="External"/><Relationship Id="rId12" Type="http://schemas.openxmlformats.org/officeDocument/2006/relationships/hyperlink" Target="http://www.who.int/" TargetMode="External"/><Relationship Id="rId13" Type="http://schemas.openxmlformats.org/officeDocument/2006/relationships/hyperlink" Target="http://www.who.int/" TargetMode="External"/><Relationship Id="rId14" Type="http://schemas.openxmlformats.org/officeDocument/2006/relationships/hyperlink" Target="http://www.heartfoundation.com.au/" TargetMode="External"/><Relationship Id="rId15" Type="http://schemas.openxmlformats.org/officeDocument/2006/relationships/hyperlink" Target="http://www.heartfoundation.com.au/" TargetMode="External"/><Relationship Id="rId16" Type="http://schemas.openxmlformats.org/officeDocument/2006/relationships/hyperlink" Target="http://www.vichealth.vic.gov.au/" TargetMode="External"/><Relationship Id="rId17" Type="http://schemas.openxmlformats.org/officeDocument/2006/relationships/hyperlink" Target="http://www.vichealth.vic.gov.au/" TargetMode="External"/><Relationship Id="rId18" Type="http://schemas.openxmlformats.org/officeDocument/2006/relationships/hyperlink" Target="http://www.beactive.com.au/" TargetMode="External"/><Relationship Id="rId19" Type="http://schemas.openxmlformats.org/officeDocument/2006/relationships/hyperlink" Target="http://www.beactive.com.au/" TargetMode="External"/><Relationship Id="rId20" Type="http://schemas.openxmlformats.org/officeDocument/2006/relationships/hyperlink" Target="http://www.goforyourlife.vic.gov.au/" TargetMode="External"/><Relationship Id="rId21" Type="http://schemas.openxmlformats.org/officeDocument/2006/relationships/hyperlink" Target="http://www.goforyourlife.vic.gov.au/" TargetMode="External"/><Relationship Id="rId22" Type="http://schemas.openxmlformats.org/officeDocument/2006/relationships/hyperlink" Target="http://www.cdc.gov/nccdphp/dnpa/physical/health_professionals/index.htm" TargetMode="External"/><Relationship Id="rId23" Type="http://schemas.openxmlformats.org/officeDocument/2006/relationships/hyperlink" Target="http://www.phac-aspc.gc.ca/hp-ps/index.html" TargetMode="External"/><Relationship Id="rId24" Type="http://schemas.openxmlformats.org/officeDocument/2006/relationships/hyperlink" Target="http://www.nphp.gov.au/workprog/sigpah/" TargetMode="External"/><Relationship Id="rId25" Type="http://schemas.openxmlformats.org/officeDocument/2006/relationships/hyperlink" Target="http://www.nphp.gov.au/workprog/sigpah/" TargetMode="External"/><Relationship Id="rId26" Type="http://schemas.openxmlformats.org/officeDocument/2006/relationships/hyperlink" Target="http://www.nphp.gov.au/workprog/sigpah/" TargetMode="External"/><Relationship Id="rId27" Type="http://schemas.openxmlformats.org/officeDocument/2006/relationships/hyperlink" Target="http://www.cdc.gov/HealthyYouth/" TargetMode="External"/><Relationship Id="rId28" Type="http://schemas.openxmlformats.org/officeDocument/2006/relationships/hyperlink" Target="http://www.cdc.gov/HealthyYouth/" TargetMode="External"/><Relationship Id="rId29" Type="http://schemas.openxmlformats.org/officeDocument/2006/relationships/hyperlink" Target="http://www.cdc.gov/HealthyYouth/" TargetMode="External"/><Relationship Id="rId30" Type="http://schemas.openxmlformats.org/officeDocument/2006/relationships/hyperlink" Target="http://www.americaonthemove.org/" TargetMode="External"/><Relationship Id="rId31" Type="http://schemas.openxmlformats.org/officeDocument/2006/relationships/hyperlink" Target="http://www.americaonthemove.org/" TargetMode="External"/><Relationship Id="rId32" Type="http://schemas.openxmlformats.org/officeDocument/2006/relationships/hyperlink" Target="http://www.ijbnpa.org/home" TargetMode="External"/><Relationship Id="rId33" Type="http://schemas.openxmlformats.org/officeDocument/2006/relationships/hyperlink" Target="http://www.ijbnpa.org/home" TargetMode="External"/><Relationship Id="rId34" Type="http://schemas.openxmlformats.org/officeDocument/2006/relationships/hyperlink" Target="http://www.ijbnpa.org/home" TargetMode="External"/><Relationship Id="rId35" Type="http://schemas.openxmlformats.org/officeDocument/2006/relationships/hyperlink" Target="http://www.health.gov.au/internet/wcms/publishing.nsf/content/home" TargetMode="External"/><Relationship Id="rId36" Type="http://schemas.openxmlformats.org/officeDocument/2006/relationships/hyperlink" Target="http://www.healthyactive.gov.au/" TargetMode="External"/><Relationship Id="rId37" Type="http://schemas.openxmlformats.org/officeDocument/2006/relationships/hyperlink" Target="http://www.healthyactive.gov.au/" TargetMode="External"/><Relationship Id="rId38" Type="http://schemas.openxmlformats.org/officeDocument/2006/relationships/hyperlink" Target="http://www.nphp.gov.au/" TargetMode="External"/><Relationship Id="rId39" Type="http://schemas.openxmlformats.org/officeDocument/2006/relationships/hyperlink" Target="http://www.nphp.gov.au/" TargetMode="External"/><Relationship Id="rId40" Type="http://schemas.openxmlformats.org/officeDocument/2006/relationships/hyperlink" Target="http://www.beactive.com.au/" TargetMode="External"/><Relationship Id="rId41" Type="http://schemas.openxmlformats.org/officeDocument/2006/relationships/hyperlink" Target="http://www.beactive.com.au/" TargetMode="External"/><Relationship Id="rId42" Type="http://schemas.openxmlformats.org/officeDocument/2006/relationships/hyperlink" Target="http://www.sport.vic.gov.au/" TargetMode="External"/><Relationship Id="rId43" Type="http://schemas.openxmlformats.org/officeDocument/2006/relationships/hyperlink" Target="http://www.sport.vic.gov.au/" TargetMode="External"/><Relationship Id="rId44" Type="http://schemas.openxmlformats.org/officeDocument/2006/relationships/image" Target="../media/image3.png"/><Relationship Id="rId45" Type="http://schemas.openxmlformats.org/officeDocument/2006/relationships/hyperlink" Target="http://www.cdc.gov/nccdphp/dnpa/physical/health_professionals/index.htm" TargetMode="External"/><Relationship Id="rId46" Type="http://schemas.openxmlformats.org/officeDocument/2006/relationships/hyperlink" Target="http://www.phac-aspc.gc.ca/hp-ps/index.html" TargetMode="External"/><Relationship Id="rId47" Type="http://schemas.openxmlformats.org/officeDocument/2006/relationships/hyperlink" Target="http://www.nphp.gov.au/workprog/sigpah/" TargetMode="External"/><Relationship Id="rId48" Type="http://schemas.openxmlformats.org/officeDocument/2006/relationships/hyperlink" Target="http://www.nphp.gov.au/workprog/sigpah/" TargetMode="External"/><Relationship Id="rId49" Type="http://schemas.openxmlformats.org/officeDocument/2006/relationships/hyperlink" Target="http://www.nphp.gov.au/workprog/sigpah/" TargetMode="External"/><Relationship Id="rId50" Type="http://schemas.openxmlformats.org/officeDocument/2006/relationships/hyperlink" Target="http://www.cdc.gov/HealthyYouth/" TargetMode="External"/><Relationship Id="rId51" Type="http://schemas.openxmlformats.org/officeDocument/2006/relationships/hyperlink" Target="http://www.cdc.gov/HealthyYouth/" TargetMode="External"/><Relationship Id="rId52" Type="http://schemas.openxmlformats.org/officeDocument/2006/relationships/hyperlink" Target="http://www.cdc.gov/HealthyYouth/" TargetMode="External"/><Relationship Id="rId53" Type="http://schemas.openxmlformats.org/officeDocument/2006/relationships/hyperlink" Target="http://www.americaonthemove.org/" TargetMode="External"/><Relationship Id="rId54" Type="http://schemas.openxmlformats.org/officeDocument/2006/relationships/hyperlink" Target="http://www.americaonthemove.org/" TargetMode="External"/><Relationship Id="rId55" Type="http://schemas.openxmlformats.org/officeDocument/2006/relationships/hyperlink" Target="http://www.ijbnpa.org/home" TargetMode="External"/><Relationship Id="rId56" Type="http://schemas.openxmlformats.org/officeDocument/2006/relationships/hyperlink" Target="http://www.ijbnpa.org/home" TargetMode="External"/><Relationship Id="rId57" Type="http://schemas.openxmlformats.org/officeDocument/2006/relationships/hyperlink" Target="http://www.ijbnpa.org/home" TargetMode="External"/><Relationship Id="rId58" Type="http://schemas.openxmlformats.org/officeDocument/2006/relationships/hyperlink" Target="http://www.health.gov.au/internet/wcms/publishing.nsf/content/home" TargetMode="External"/><Relationship Id="rId59" Type="http://schemas.openxmlformats.org/officeDocument/2006/relationships/hyperlink" Target="http://www.healthyactive.gov.au/" TargetMode="External"/><Relationship Id="rId60" Type="http://schemas.openxmlformats.org/officeDocument/2006/relationships/hyperlink" Target="http://www.healthyactive.gov.au/" TargetMode="External"/><Relationship Id="rId61" Type="http://schemas.openxmlformats.org/officeDocument/2006/relationships/hyperlink" Target="http://www.nphp.gov.au/" TargetMode="External"/><Relationship Id="rId62" Type="http://schemas.openxmlformats.org/officeDocument/2006/relationships/hyperlink" Target="http://www.nphp.gov.au/" TargetMode="External"/><Relationship Id="rId63" Type="http://schemas.openxmlformats.org/officeDocument/2006/relationships/hyperlink" Target="http://www.beactive.com.au/" TargetMode="External"/><Relationship Id="rId64" Type="http://schemas.openxmlformats.org/officeDocument/2006/relationships/hyperlink" Target="http://www.beactive.com.au/" TargetMode="External"/><Relationship Id="rId65" Type="http://schemas.openxmlformats.org/officeDocument/2006/relationships/hyperlink" Target="http://www.sport.vic.gov.au/" TargetMode="External"/><Relationship Id="rId66" Type="http://schemas.openxmlformats.org/officeDocument/2006/relationships/hyperlink" Target="http://www.sport.vic.gov.au/" TargetMode="External"/><Relationship Id="rId67" Type="http://schemas.openxmlformats.org/officeDocument/2006/relationships/slide" Target="slide1.xml"/><Relationship Id="rId6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2710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92720" y="2536920"/>
            <a:ext cx="3608280" cy="3556080"/>
          </a:xfrm>
          <a:prstGeom prst="rect">
            <a:avLst/>
          </a:prstGeom>
          <a:ln w="12600">
            <a:solidFill>
              <a:srgbClr val="1a302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50920" y="263700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995640" y="3068640"/>
            <a:ext cx="1036800" cy="13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003560" y="4724280"/>
            <a:ext cx="993960" cy="12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48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Mandated minimum time allocation for PE &amp; sport in Government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Allocated play spaces for various year levels within the school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Ensure there is activity equipment monitors allocated during brea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Consider the provision of active transport routes and access to green space in urban planning of new develop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Subsidise health club memberships for employ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宋体"/>
              </a:rPr>
              <a:t>Reduce insurance rates for active and fit employe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4221000"/>
            <a:ext cx="3083040" cy="201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149640" cy="2360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8 page 69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School Setting-based Progra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ool Sett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7920" y="2001960"/>
            <a:ext cx="3667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play a major role in shaping children’s attitudes towards PA and living an active lifestyle. Schools encourage lifelong patterns of 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based programs 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ly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ho participated in these programs are more likely to be active for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aterial and school curriculum appears to be the most effective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22720" y="2068200"/>
            <a:ext cx="469728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after schools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56731"/>
                </a:solidFill>
                <a:uFillTx/>
                <a:latin typeface="Arial"/>
                <a:hlinkClick r:id="rId2"/>
              </a:rPr>
              <a:t>http://www.ausport.gov.au/aasc/index.a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 PA decreases as students during the secondary years due to a crowded curriculum and student subject ch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can increase PA b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government recommendations for time allocated to 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sufficient sports equipment and facilities / public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ing school sporting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16360" y="2205000"/>
            <a:ext cx="3168360" cy="2089080"/>
          </a:xfrm>
          <a:prstGeom prst="ellipse">
            <a:avLst/>
          </a:pr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256536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ntervention strategies could we do at our sch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195280" y="1699920"/>
            <a:ext cx="1081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42764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651640" y="1773000"/>
            <a:ext cx="8650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834920" y="328464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47640" y="414972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9280" y="429264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386064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0" y="386064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sports 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08680" y="508464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ing sedentary behavi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9240" y="53006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family progra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5800" y="465300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transport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30880" y="83664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nd out of school community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3240" y="29973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4880" y="134136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 curricula initi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36320" y="1484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lking School Bu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Walking School Bus Program is a VicHealth initiative that’s giving communities an effective and easy way to get children walking to school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ay in Victoria nearly one-third of all children spend less than 5 minutes walking per day. Inactive children are more likely to be overweight – with the proportion of Australian children who are in this category now reaching 25%. Walking to and from school gives children the opportunity to engage in regular physical activity.</a:t>
            </a:r>
            <a:br>
              <a:rPr sz="1800"/>
            </a:b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444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58 Victorian councils have implemented Walking School Bus progra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200 primary school students from more than 200 primary schools use the Walking School Bus to get to school, with the help of 800 volunteer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‘buses’ have become a very positive part of school and community life and offer many health, environmental and safety benef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ing School Bus programs can be implemented by schools with the help of your local council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332000" y="51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403280" cy="141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9640" y="15192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ool Program Examp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324000" y="1773360"/>
          <a:ext cx="8452800" cy="4750920"/>
        </p:xfrm>
        <a:graphic>
          <a:graphicData uri="http://schemas.openxmlformats.org/drawingml/2006/table">
            <a:tbl>
              <a:tblPr/>
              <a:tblGrid>
                <a:gridCol w="1956960"/>
                <a:gridCol w="2295360"/>
                <a:gridCol w="952560"/>
                <a:gridCol w="324792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use of o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use of green 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vering the TurtleWay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ng paths and cycle-ways between town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escent playground mark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hildren playing in specific 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3"/>
                        </a:rPr>
                        <a:t>Walking school b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vichealth.vic.gov.au/Content.aspx?topicID=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increase amount of PA and saf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elSmart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4"/>
                        </a:rPr>
                        <a:t>www.travelsmart.gov.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LD, VIC, SA and 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able travel arrang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Primary School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PA at school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0560" y="1773000"/>
            <a:ext cx="8645400" cy="482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sks on page 72 and 7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7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3.1, 3.2 and 3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875720" y="5373720"/>
            <a:ext cx="900000" cy="1189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028000" y="0"/>
            <a:ext cx="90504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a744"/>
                </a:solidFill>
                <a:latin typeface="Arial"/>
              </a:rPr>
              <a:t>Workplace Setting-based Progra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1600" y="4221000"/>
            <a:ext cx="7916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kplace Sett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0160" y="1801440"/>
            <a:ext cx="406548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 of PA at work assists wi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mo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work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‘sicki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feeling of being st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staff turn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community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 inclu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interest at managemen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ze of the 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support or interest from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2920" y="1801440"/>
            <a:ext cx="413568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79400" cy="12952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932360" y="1773360"/>
            <a:ext cx="3809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s for being more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he stairs instead of the li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for a walk at lunch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off the bus, train or tram one stop early and walk the rest of the 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k the car 15 minutes away and walk the rest of the 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gether with some workmates and form a sports t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788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’s Wrong with this Pict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91400" cy="47530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- Stair use Interven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on improvements to stai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l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pet &amp; motivational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decision sig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s- the wealth is health- take the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aiting one door over- take the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10% increase in stair use of a 5 floor 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00720" y="1844640"/>
            <a:ext cx="2068200" cy="2112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263600" cy="13888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516720" y="4149720"/>
            <a:ext cx="2220840" cy="2220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7093080" y="1773360"/>
            <a:ext cx="1458720" cy="21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place Program Examp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0920" y="1773360"/>
          <a:ext cx="8435520" cy="4695480"/>
        </p:xfrm>
        <a:graphic>
          <a:graphicData uri="http://schemas.openxmlformats.org/drawingml/2006/table">
            <a:tbl>
              <a:tblPr/>
              <a:tblGrid>
                <a:gridCol w="2186640"/>
                <a:gridCol w="2782800"/>
                <a:gridCol w="791640"/>
                <a:gridCol w="2674440"/>
              </a:tblGrid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Beat Challenge, Lets Get Moving and Stroll, Strut, Stride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newhealth.govt.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PA at work and health aware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in to Work Out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dundee.ac.uk/sportexercise/events/2005/walkin.h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self-help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irway to Health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activelivingatwork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use of stairs at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 30 – its not a big exercise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findthirty.com.au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s for a healthier approach to PA in the work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at Work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shaw.uk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entives for businesses which promote P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a744"/>
                </a:solidFill>
                <a:latin typeface="Arial"/>
              </a:rPr>
              <a:t>Community Setting-based Progra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26920" y="4221000"/>
            <a:ext cx="791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ty Sett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1673280"/>
            <a:ext cx="388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‘community’ refers to local groups of people, whole cities or whole n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ngthening the communities knowledge and interest in the benefits of physical activity is therefore v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local influ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ban design (Town plann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characteristics (Transpor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rwell characteristics (Archit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k characteristics (Recreation, landscape archit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me (Justice &amp; law enfor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7640" y="1699920"/>
            <a:ext cx="446544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 strategies inclu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ing local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community venues that encourage physical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health checks at shopping cen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ve sessions for community members on health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council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227640" y="4724280"/>
            <a:ext cx="2665440" cy="180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877080" y="189000"/>
            <a:ext cx="2044800" cy="132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unity Program Examp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1700280"/>
          <a:ext cx="8713440" cy="4479840"/>
        </p:xfrm>
        <a:graphic>
          <a:graphicData uri="http://schemas.openxmlformats.org/drawingml/2006/table">
            <a:tbl>
              <a:tblPr/>
              <a:tblGrid>
                <a:gridCol w="1785600"/>
                <a:gridCol w="2666160"/>
                <a:gridCol w="965520"/>
                <a:gridCol w="329616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P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nong Common Health Walks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2"/>
                        </a:rPr>
                        <a:t>http://www.dpi.wa.gov.au/walking/713.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of volunteers to lead regular nature walks in the local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ing the Way to Health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3"/>
                        </a:rPr>
                        <a:t>http://www.whi.org.uk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recreational walking safer and provides information for walke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 to Health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4"/>
                        </a:rPr>
                        <a:t>http://www.path-to-health.com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ing paths close to existing footpaths. Located near residences and workpl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nley Community Wal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-monthly walks lead by volunt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and Talk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walking groups promoting PA and social enviro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ping Out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er adult walking groups and provides resources/k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skate p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556731"/>
                          </a:solidFill>
                          <a:uFillTx/>
                          <a:latin typeface="Arial"/>
                          <a:hlinkClick r:id="rId5"/>
                        </a:rPr>
                        <a:t>www.joondalup.wa.gov.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a skate environment for any commun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eb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77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3.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a744"/>
                </a:solidFill>
                <a:latin typeface="Arial"/>
              </a:rPr>
              <a:t>Specific Physical Activity Approa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26920" y="4005000"/>
            <a:ext cx="791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447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Physical Activity Approaches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1868040"/>
            <a:ext cx="425916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n Institute of Sport (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 Performance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56731"/>
                </a:solidFill>
                <a:uFillTx/>
                <a:latin typeface="Arial"/>
                <a:hlinkClick r:id="rId2"/>
              </a:rPr>
              <a:t>http://www.ausport.gov.a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n 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5880" y="1935000"/>
            <a:ext cx="42591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after schoo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or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ilit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in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in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ing Fair – ethics in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Growth and Club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and Offici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773840" y="836640"/>
            <a:ext cx="1370160" cy="716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Young child plays a game of rugby Photo: NSIC collection ASC"/>
          <p:cNvPicPr/>
          <p:nvPr/>
        </p:nvPicPr>
        <p:blipFill>
          <a:blip r:embed="rId5"/>
          <a:stretch/>
        </p:blipFill>
        <p:spPr>
          <a:xfrm>
            <a:off x="7308720" y="5489640"/>
            <a:ext cx="1517760" cy="995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AIS outdoor synthentic track Photo: ASC collection NSIC"/>
          <p:cNvPicPr/>
          <p:nvPr/>
        </p:nvPicPr>
        <p:blipFill>
          <a:blip r:embed="rId6"/>
          <a:stretch/>
        </p:blipFill>
        <p:spPr>
          <a:xfrm>
            <a:off x="468360" y="4797360"/>
            <a:ext cx="2336760" cy="1676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AIS Visitors Centre in Canberra Photo: ASC collection NSIC"/>
          <p:cNvPicPr/>
          <p:nvPr/>
        </p:nvPicPr>
        <p:blipFill>
          <a:blip r:embed="rId7"/>
          <a:stretch/>
        </p:blipFill>
        <p:spPr>
          <a:xfrm>
            <a:off x="7451640" y="1989000"/>
            <a:ext cx="1513080" cy="933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: Sport and Recreation Victoria (SRV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for You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for all 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genous S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s 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Activity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G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Safe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ly and Linguistically Diverse (CAL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Women and Gir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Boxing and Combat Sp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port.vic.gov.a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588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V assists wi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sports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V funding and 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young children work with a tennis coach Photo: NSIC collection ASC"/>
          <p:cNvPicPr/>
          <p:nvPr/>
        </p:nvPicPr>
        <p:blipFill>
          <a:blip r:embed="rId3"/>
          <a:stretch/>
        </p:blipFill>
        <p:spPr>
          <a:xfrm>
            <a:off x="6300720" y="4365720"/>
            <a:ext cx="1943280" cy="23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RV Funding Proj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79280" y="1268280"/>
          <a:ext cx="876312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268280"/>
                    <a:ext cx="87631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6732720" y="4869000"/>
            <a:ext cx="1722240" cy="1401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684360" y="4797360"/>
            <a:ext cx="2144520" cy="143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A Settings Approac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26920" y="4149720"/>
            <a:ext cx="7917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hysical Activity: Settings Based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24000" y="1844280"/>
            <a:ext cx="857232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re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80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3.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2 page 81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560" y="1773000"/>
            <a:ext cx="8645400" cy="4824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view questions 1-2 page 8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chapter questions on page 15-19 of Nels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89640" y="4581360"/>
            <a:ext cx="1258920" cy="17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ummarised information of pages 20-37 of PHYS ED Notes and complete the revi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E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7209000" y="4365720"/>
            <a:ext cx="1430280" cy="2019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7740720" y="260280"/>
            <a:ext cx="1135080" cy="10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Links – Chapter 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65" name="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– Introduction (Centre for disease control and prevention – 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5"/>
                    </a:rPr>
                    <a:t>www.nphp.gov.au/workprog/sigpa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6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8"/>
                    </a:rPr>
                    <a:t>www.cdc.gov/HealthyYout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9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1"/>
                    </a:rPr>
                    <a:t>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3"/>
                    </a:rPr>
                    <a:t>www.ijbnpa.org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4"/>
                    </a:rPr>
                    <a:t>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5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7"/>
                    </a:rPr>
                    <a:t>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9"/>
                    </a:rPr>
                    <a:t>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1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3"/>
                    </a:rPr>
                    <a:t>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0" y="1371600"/>
            <a:ext cx="9144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Sports Commission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4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5"/>
              </a:rPr>
              <a:t>www.ausport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Find 30 promotion (Government of WA Department of Health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6"/>
              </a:rPr>
              <a:t>http://www.find30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Walking School Bus promotion (UK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7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8"/>
              </a:rPr>
              <a:t>www.walkingbus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Ministry of Health (New Zealand) toolkits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9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0"/>
              </a:rPr>
              <a:t>www.newhealth.govt.nz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he 10,000 Steps Rockhampton project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1"/>
              </a:rPr>
              <a:t>http://www.10000steps.org.au/rockhampton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ravelsmart Australia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2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3"/>
              </a:rPr>
              <a:t>www.travelsmart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Organisation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4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5"/>
              </a:rPr>
              <a:t>www.who.i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eart Foundation Australia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6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7"/>
              </a:rPr>
              <a:t>www.heartfoundation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VicHealth (The Victorian Health Promotion Foundation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8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9"/>
              </a:rPr>
              <a:t>www.vichealth.vic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Be Active promotion (Government of South Australia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0"/>
              </a:rPr>
              <a:t>http://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1"/>
              </a:rPr>
              <a:t>www.beactive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6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16000" y="18900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Links – Chapte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75" name="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– Introduction (Centre for disease control and prevention – 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5"/>
                    </a:rPr>
                    <a:t>www.nphp.gov.au/workprog/sigpa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6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8"/>
                    </a:rPr>
                    <a:t>www.cdc.gov/HealthyYout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9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1"/>
                    </a:rPr>
                    <a:t>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3"/>
                    </a:rPr>
                    <a:t>www.ijbnpa.org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4"/>
                    </a:rPr>
                    <a:t>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5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7"/>
                    </a:rPr>
                    <a:t>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9"/>
                    </a:rPr>
                    <a:t>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1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3"/>
                    </a:rPr>
                    <a:t>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1" name="" descr=""/>
          <p:cNvPicPr/>
          <p:nvPr/>
        </p:nvPicPr>
        <p:blipFill>
          <a:blip r:embed="rId4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1371600"/>
            <a:ext cx="9144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Physical Activity Resources for Health Professionals – Introduction (Centre for disease control and prevention – USA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5"/>
              </a:rPr>
              <a:t>http://www.cdc.gov/nccdphp/dnpa/physical/health_professionals/index.htm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Health Promotion (Public Health Agency of Canada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6"/>
              </a:rPr>
              <a:t>http://www.phac-aspc.gc.ca/hp-ps/index.html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Strategic Inter-Governmental Forum on Physical Activity and Health (SIGPAH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7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8"/>
              </a:rPr>
              <a:t>www.nphp.gov.au/workprog/sigpah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49"/>
              </a:rPr>
              <a:t>/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Healthy youth (Centre for disease control and prevention (USA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0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1"/>
              </a:rPr>
              <a:t>www.cdc.gov/HealthyYouth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2"/>
              </a:rPr>
              <a:t>/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On The Move promotion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3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4"/>
              </a:rPr>
              <a:t>www.americaonthemove.org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Papers from the International Journal of Behavioural Nutrition and Physical Activity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5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6"/>
              </a:rPr>
              <a:t>www.ijbnpa.org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7"/>
              </a:rPr>
              <a:t>/ho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Department of health and aging (Australian government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8"/>
              </a:rPr>
              <a:t>http://www.health.gov.au/internet/wcms/publishing.nsf/content/ho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Building a healthy, active Australia (Australian government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59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0"/>
              </a:rPr>
              <a:t>www.healthyactive.gov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Public Health Partnership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1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2"/>
              </a:rPr>
              <a:t>www.nphp.gov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Be Active promotion (Government of South Australia)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3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4"/>
              </a:rPr>
              <a:t>www.beactive.com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Sport and Recreation Australia: 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5"/>
              </a:rPr>
              <a:t>http://</a:t>
            </a:r>
            <a:r>
              <a:rPr b="0" lang="en-AU" sz="16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66"/>
              </a:rPr>
              <a:t>www.sport.vic.gov.au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67" action="ppaction://hlinksldjump"/>
          </p:cNvPr>
          <p:cNvSpPr/>
          <p:nvPr/>
        </p:nvSpPr>
        <p:spPr>
          <a:xfrm>
            <a:off x="81532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Settings Approac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key settings for physical activity behaviour change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ultiple types/levels of influence on PA behaviou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aperson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/cultur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enviro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ies are usually needed to change physical enviro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403236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rget domains for PA interven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59040" y="1773360"/>
            <a:ext cx="1408320" cy="199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116000" y="3933720"/>
            <a:ext cx="3048120" cy="2027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0360" y="1773360"/>
            <a:ext cx="2232000" cy="131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084720" y="3860640"/>
            <a:ext cx="1679760" cy="2238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4211640" y="349992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84360" y="3860640"/>
            <a:ext cx="6476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386064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932360" y="3068640"/>
            <a:ext cx="71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20720" y="2349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3440" y="602136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0000"/>
                </a:solidFill>
                <a:latin typeface="Arial"/>
              </a:rPr>
              <a:t>Physic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9440" y="32130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21440" y="6165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1844280"/>
            <a:ext cx="857232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4 page 65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&amp; Interperson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Link programs to community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Active yard-duty where teachers are active role models fo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Peer-lead programs where students organise and run activities for ot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Play music in a designated dancing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Establish walking groups for different ag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Mass media campaign to increase awareness of community programs and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444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Work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Encourage staff to park further away form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 lunchtime wal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Schedule active meetings (eg walk and talk about a conc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 one day per week that is casual clothes day to encourage people to be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Organise a ride to wor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Enter a work team into a sporting competition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Enviro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stall bicycle racks and secure lock up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 traffic calming on active transport routes to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 wall and line mar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stall activity prompts- courts, basketball rings, goals, gymnasiums, activity areas, playground equipment, cubby houses, hills, logs, tr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444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crease aesthetics of parks &amp; walking tr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creased access to walking trails to specific destinations such as shops, post office, parks, school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 facilities specific for different age groups and cultural interests (eg skate parks and lawn bowls or boc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宋体"/>
              </a:rPr>
              <a:t>Publish distances to walk specific destinations on sig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588000" y="5300640"/>
            <a:ext cx="1874880" cy="111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2592360" cy="1800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pl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5878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ing motivational or informative posters, signage or brochures about the benefits of physical activity and some tips on getting acti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ing and encouraging employees to use the stairs.  Use the ‘footprint’ stickers to guide people toward the stairs rather than walking straight to the lift; Promote ‘walking meetings’, lunch-time walks and 5-10 minute walk breaks during the 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ing bicycle racks or alternative secure bicycle storage to encourage people to cycle to wor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ing information on local opportunities for physical activi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ising physical activity opportunities through email, company intranet or websites, links to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e ac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ebsite, noticeboards and newsletter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444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chasing corporate memberships of local fitness centres.  Some local fitness centres offer attractive corporate packages which allow employees reduced membership rat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ing on-site facilities such as gyms (this may be an option for large employer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ing showers, change room facilities and lockers for those who wish to cycle, walk or jog to work or participate in more vigorous activities in and around the working da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ing sports and physical activity clubs such as social football and netball teams, and walking and jogging groups;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uraging employees to form corporate teams for events such as Corporate Cup,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e ac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u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the Masters Ga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3</a:t>
            </a: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0:17:34Z</dcterms:created>
  <dc:creator>DE&amp;T User</dc:creator>
  <dc:description/>
  <dc:language>en-US</dc:language>
  <cp:lastModifiedBy>DE&amp;T User</cp:lastModifiedBy>
  <dcterms:modified xsi:type="dcterms:W3CDTF">2007-12-10T03:17:42Z</dcterms:modified>
  <cp:revision>190</cp:revision>
  <dc:subject/>
  <dc:title>Unit 3</dc:title>
</cp:coreProperties>
</file>